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camera.wav" ContentType="audio/x-wav"/>
  <Override PartName="/ppt/media/bomb.wav" ContentType="audio/x-wav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2CF-33A6-4840-91F6-2828744D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039-CC96-4DC8-B5C5-F73519D9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773-850C-4738-A8EE-411D3BBD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2E4-BB1A-4384-B7CA-E1FA0AC6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E142-8F2B-48F8-B741-5D240E45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B33E-E4DA-451F-BF68-1C423EE3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13A7-4323-44C8-8200-6EB18F0F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089E-4898-4465-BBC4-470091BA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7668-4C4C-478C-ABAD-FF1DC7A0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A11E-311F-4F4E-A4C7-1A99FEED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2AC6-5AF2-4435-9C53-46A0164D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2AE-AE43-42E2-B8A5-158CAA4D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3690-1A2B-4E25-A17E-317496BB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CC5E-6DA4-448C-AEBE-B08721CB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7AD5-FA65-447A-A953-31696952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91AA-66CA-4B69-996D-D595101F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618A-4B41-427E-A519-CA135324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BCD-4C4B-48FF-8EDF-C38D4F2E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1C4-C4C0-4109-8545-72B0A819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DEE-2A54-434B-A3F1-6DF4F22F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595-C835-4D9D-8A9A-E9018C47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8AB-0C32-456F-AF0B-0EE6A8CC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9F9-9D65-486C-A9ED-F9CE3902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566-1DA8-4129-9A90-9E24CD3B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1609-CADD-4019-96A0-C7B8F6997BD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DD30-864E-4E72-A446-E3F37679C5A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la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efinition :  To have a grumpy fac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Base word: glar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Inflection: ing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ynonym : Ma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ntonym: Happy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188928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torytell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Definition: Someone that tells storie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ynonym :Reader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ntonyms : audien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yllable :story- tel-ler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45040" y="1927080"/>
            <a:ext cx="1895760" cy="1781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89680" y="4167360"/>
            <a:ext cx="1806480" cy="1568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1508040" cy="2209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or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o take some thing with permission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ynonym check out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610480" y="6095880"/>
          <a:ext cx="98640" cy="1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0480" y="6095880"/>
                    <a:ext cx="9864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age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000">
    <p:cover dir="ld"/>
    <p:sndAc>
      <p:stSnd>
        <p:snd r:embed="rId1" name="bomb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21:19:00Z</dcterms:created>
  <dc:creator>Rooseveltlab</dc:creator>
  <dc:description/>
  <dc:language>en-US</dc:language>
  <cp:lastModifiedBy>Rooseveltlab</cp:lastModifiedBy>
  <dcterms:modified xsi:type="dcterms:W3CDTF">2008-10-30T21:59:22Z</dcterms:modified>
  <cp:revision>5</cp:revision>
  <dc:subject/>
  <dc:title>glaring</dc:title>
</cp:coreProperties>
</file>